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DEC-178E-4BAA-A7BE-AFA86B90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758-735B-4416-B34B-4C8ABAA4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F76-7CED-4924-90CD-E421EBC1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CD5-77F3-4626-9A90-64769424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84D-4186-4544-A906-5D49B7D3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619-4059-4863-AF75-2614A05A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27E-8115-4CBB-A307-E8ED19BF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2B3-01E7-4FA3-9D3A-F72E850D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6E9-18F1-4506-B24F-AF890CD7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B2D-D70A-4D4D-9A00-972DAB28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CF7-B734-4296-99FD-C68851D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888-F361-473F-801A-9B0F1A25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DCF1-667D-4CDC-810F-E93CA915D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7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4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terminamos el repaso para el examen del capitulo 2 d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con la palabra correc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va al ___________ medico porque no esta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abre la boca y el medico _____ examina la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edico ________ la rec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va a la ________ con la rec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armacéutico _________ la rec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armacéutico le da una _________ de pasti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el capitulo 2 para el 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los paises y las capi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5:08:49Z</dcterms:created>
  <dc:creator>Helen Zumaeta</dc:creator>
  <dc:description/>
  <dc:language>en-US</dc:language>
  <cp:lastModifiedBy>Helen Zumaeta</cp:lastModifiedBy>
  <dcterms:modified xsi:type="dcterms:W3CDTF">2013-01-22T18:46:11Z</dcterms:modified>
  <cp:revision>5</cp:revision>
  <dc:subject/>
  <dc:title>Me llamo ________ Clase 7il La fecha es el 17 de enero del 2013</dc:title>
</cp:coreProperties>
</file>